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3806-72D9-4760-8552-11569475E0F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5160-5208-4ACE-B6AB-1B04E87E347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F0A-FF73-4D1A-BB82-34BDB261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A6E8-CF83-40FD-A18F-F00C351A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4BB-2B43-49E3-A16F-D13ACCB7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416-786E-458C-9552-CD585599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3DA-A119-4DA7-9078-A1C7E6F2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D38-1B89-4BCE-88C4-B0D03EA7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3AF-EDD5-4048-B915-E9D4C8F1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345-C966-4C05-B135-C494987F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0E7-9B09-416D-859C-01CDCB9D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2B5-0362-4DF0-83FC-9690A1CD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0C0-028C-489A-84EB-82C49259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D0AB-D4B5-42BB-BB4F-C8420003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1938-59A2-4A12-897F-CFBF5502A0B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volucion-industrial.wikispaces.com/TAREA+2" TargetMode="External"/><Relationship Id="rId2" Type="http://schemas.openxmlformats.org/officeDocument/2006/relationships/hyperlink" Target="http://revolucion-industrial.wikispaces.com/file/view/MI%20DIARIO%20DE%20APRENDIZAJE.doc/383179572/MI%20DIARIO%20DE%20APRENDIZAJE.doc" TargetMode="External"/><Relationship Id="rId3" Type="http://schemas.openxmlformats.org/officeDocument/2006/relationships/hyperlink" Target="http://revolucion-industrial.wikispaces.com/file/view/Orientaciones%20para%20escribir%20el%20diario.doc/272619276/Orientaciones%20para%20escribir%20el%20diario.doc" TargetMode="External"/><Relationship Id="rId4" Type="http://schemas.openxmlformats.org/officeDocument/2006/relationships/hyperlink" Target="http://revolucion-industrial.wikispaces.com/file/view/PARA%20EVALUAR%20EL%20DIARIO.doc/358128849/PARA%20EVALUAR%20EL%20DIARIO.doc" TargetMode="External"/><Relationship Id="rId5" Type="http://schemas.openxmlformats.org/officeDocument/2006/relationships/hyperlink" Target="http://revolucion-industrial.wikispaces.com/C&#243;mo+leer+mi+diario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hyperlink" Target="http://issuu.com/anabast/docs/diarios_de_2___a_def?e=3238477/7819659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evolucion-industrial.wikispaces.com/contar+algunas+situaciones+de+explotaci&#243;n+infantiles+y+juveniles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voki.com/" TargetMode="External"/><Relationship Id="rId5" Type="http://schemas.openxmlformats.org/officeDocument/2006/relationships/hyperlink" Target="http://www.slideshare.net/AnaBasterra/voki-copia" TargetMode="External"/><Relationship Id="rId6" Type="http://schemas.openxmlformats.org/officeDocument/2006/relationships/hyperlink" Target="http://revolucion-industrial.wikispaces.com/file/view/Informaci&#243;n%20escrita%20para%20crear%20mis%20personajes.doc/356042496/Informaci&#243;n%20escrita%20para%20crear%20mis%20personajes.doc" TargetMode="External"/><Relationship Id="rId7" Type="http://schemas.openxmlformats.org/officeDocument/2006/relationships/hyperlink" Target="http://revolucion-industrial.wikispaces.com/file/view/MI%20DIARIO%20DE%20APRENDIZAJE.doc/383179572/MI%20DIARIO%20DE%20APRENDIZAJE.doc" TargetMode="External"/><Relationship Id="rId8" Type="http://schemas.openxmlformats.org/officeDocument/2006/relationships/hyperlink" Target="http://revolucion-industrial.wikispaces.com/file/view/Texto%20Antes%20de%20empezar.doc/356050700/Texto%20Antes%20de%20empezar.doc" TargetMode="External"/><Relationship Id="rId9" Type="http://schemas.openxmlformats.org/officeDocument/2006/relationships/hyperlink" Target="http://revolucion-industrial.wikispaces.com/file/view/CREAMOS%20NUESTROS%20PERSONAJES%20Y%20LES%20PONEMOS%20VOZ.doc/356046170/CREAMOS%20NUESTROS%20PERSONAJES%20Y%20LES%20PONEMOS%20VOZ.doc" TargetMode="External"/><Relationship Id="rId10" Type="http://schemas.openxmlformats.org/officeDocument/2006/relationships/hyperlink" Target="http://www.slideshare.net/AnaBasterra/voki-copia" TargetMode="External"/><Relationship Id="rId11" Type="http://schemas.openxmlformats.org/officeDocument/2006/relationships/hyperlink" Target="http://revolucion-industrial.wikispaces.com/file/view/PLANTILLA%20DE%20EVALUACI&#211;N%20PERSONAJES.doc/397542844/PLANTILLA%20DE%20EVALUACI&#211;N%20PERSONAJES.doc" TargetMode="External"/><Relationship Id="rId12" Type="http://schemas.openxmlformats.org/officeDocument/2006/relationships/hyperlink" Target="http://revolucion-industrial.wikispaces.com/file/view/PARA%20EVALUAR%20LA%20EXPOSICI&#211;N%20ORAL%203&#170;%20tarea.doc/364961288/PARA%20EVALUAR%20LA%20EXPOSICI&#211;N%20ORAL%203&#170;%20tarea.doc" TargetMode="External"/><Relationship Id="rId13" Type="http://schemas.openxmlformats.org/officeDocument/2006/relationships/hyperlink" Target="http://revolucion-industrial.wikispaces.com/file/view/PLANTILLA%20DE%20EVALUACI&#211;N%20PERSONAJES.doc/397542844/PLANTILLA%20DE%20EVALUACI&#211;N%20PERSONAJES.doc" TargetMode="External"/><Relationship Id="rId14" Type="http://schemas.openxmlformats.org/officeDocument/2006/relationships/hyperlink" Target="http://revolucion-industrial.wikispaces.com/file/view/PARA%20EVALUAR%20LA%20EXPOSICI&#211;N%20ORAL%203&#170;%20tarea.doc/364961288/PARA%20EVALUAR%20LA%20EXPOSICI&#211;N%20ORAL%203&#170;%20tarea.doc" TargetMode="External"/><Relationship Id="rId15" Type="http://schemas.openxmlformats.org/officeDocument/2006/relationships/hyperlink" Target="http://portafolio-2a.wikispaces.com/PORTFOLIO+DE+JOS&#201;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youtube.com/watch?v=v0FwDvOOCZ0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3QuztuwAa4o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s://vimeo.com/2073568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11280" y="692280"/>
            <a:ext cx="698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s paramos a pensar y reflexionamos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35280" y="5229360"/>
            <a:ext cx="547344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Qué inteligencias se trabaj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Qué competenci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http://fermanzanilla.mx/wp-content/uploads/2013/01/pensar-o-sentir.jpg"/>
          <p:cNvPicPr/>
          <p:nvPr/>
        </p:nvPicPr>
        <p:blipFill>
          <a:blip r:embed="rId1"/>
          <a:stretch/>
        </p:blipFill>
        <p:spPr>
          <a:xfrm>
            <a:off x="2340000" y="162864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84360" y="333360"/>
            <a:ext cx="7632720" cy="105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area 2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: Escribo un diario personal poniéndome en la piel de un niño o joven que trabajó durante la Revolución Indu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4000" y="1125360"/>
            <a:ext cx="8569080" cy="203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1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o estos textos y expreso mis sentimien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2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ozco diferentes di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3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to en el camino: Escribimos en el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iario de aprendizaj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4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cribo mi diario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Orienta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erramienta de evalu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5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o en voz alta el diario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Orienta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http://4.bp.blogspot.com/-9hfsPu9f5Eo/UBUXMGmGKEI/AAAAAAAACYI/DKr_WEMkNMo/s1600/article-1312764-0B389E7D000005DC-978_468x618.jpg"/>
          <p:cNvPicPr/>
          <p:nvPr/>
        </p:nvPicPr>
        <p:blipFill>
          <a:blip r:embed="rId6"/>
          <a:stretch/>
        </p:blipFill>
        <p:spPr>
          <a:xfrm>
            <a:off x="5651640" y="3573360"/>
            <a:ext cx="2487600" cy="3284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2.bp.blogspot.com/-3MUxj3vrRB0/T1dRSTTVCnI/AAAAAAAAAS8/2W0xwib3qZE/s640/1910_hilandera_North_Pownal_Cotton.jpg"/>
          <p:cNvPicPr/>
          <p:nvPr/>
        </p:nvPicPr>
        <p:blipFill>
          <a:blip r:embed="rId7"/>
          <a:stretch/>
        </p:blipFill>
        <p:spPr>
          <a:xfrm>
            <a:off x="324000" y="3500280"/>
            <a:ext cx="2874960" cy="3357720"/>
          </a:xfrm>
          <a:prstGeom prst="rect">
            <a:avLst/>
          </a:prstGeom>
          <a:ln w="0">
            <a:noFill/>
          </a:ln>
        </p:spPr>
      </p:pic>
      <p:sp>
        <p:nvSpPr>
          <p:cNvPr id="55" name="5 Rectángulo"/>
          <p:cNvSpPr/>
          <p:nvPr/>
        </p:nvSpPr>
        <p:spPr>
          <a:xfrm>
            <a:off x="2286000" y="310500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Diario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2º ESO Instituto de Astrabudua (Bizkai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AREA: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Utilizando diferentes avatares,</a:t>
            </a: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ntamos situaciones de explotación infantil y juvenil en el siglo XX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vokipic"/>
          <p:cNvPicPr/>
          <p:nvPr/>
        </p:nvPicPr>
        <p:blipFill>
          <a:blip r:embed="rId2"/>
          <a:stretch/>
        </p:blipFill>
        <p:spPr>
          <a:xfrm>
            <a:off x="0" y="907920"/>
            <a:ext cx="2371680" cy="310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voki-girl"/>
          <p:cNvPicPr/>
          <p:nvPr/>
        </p:nvPicPr>
        <p:blipFill>
          <a:blip r:embed="rId3"/>
          <a:stretch/>
        </p:blipFill>
        <p:spPr>
          <a:xfrm>
            <a:off x="0" y="3963960"/>
            <a:ext cx="2155680" cy="2894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2340000" y="1087560"/>
            <a:ext cx="6553080" cy="520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actividad puede ser individual o en pare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1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ocemos la aplicación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VOKI 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brimos una cuenta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Tuto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2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uscamos información en Internet para poner voz a nuestros personajes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lantilla para recoger la información escri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3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to en el camino. Escribimos en nuestro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diario de aprendiz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4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nsamos en qué personajes vamos a crear y les ponemos voz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Orienta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lantilla para crear los personaj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tutorial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plantilla de evaluación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a crear los personajes y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plantilla de evaluación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a la exposición o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5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eamos nuestros personajes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Plantilla de evalu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6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esentamos nuestros personajes a los compañeros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lantilla de evaluación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 exposición o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484360" y="5877000"/>
            <a:ext cx="3167280" cy="132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eb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6 CuadroTexto"/>
          <p:cNvSpPr/>
          <p:nvPr/>
        </p:nvSpPr>
        <p:spPr>
          <a:xfrm>
            <a:off x="4643280" y="602136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Jos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7 CuadroTexto"/>
          <p:cNvSpPr/>
          <p:nvPr/>
        </p:nvSpPr>
        <p:spPr>
          <a:xfrm>
            <a:off x="5940360" y="59500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º ESO Instituto de Astrabud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7777080" cy="55562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835280" y="5661000"/>
            <a:ext cx="547344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lma del Río (Córdob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“Bodas de sangr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6711840" cy="4176720"/>
          </a:xfrm>
          <a:prstGeom prst="rect">
            <a:avLst/>
          </a:prstGeom>
          <a:ln w="0">
            <a:noFill/>
          </a:ln>
        </p:spPr>
      </p:pic>
      <p:sp>
        <p:nvSpPr>
          <p:cNvPr id="66" name="2 CuadroTexto"/>
          <p:cNvSpPr/>
          <p:nvPr/>
        </p:nvSpPr>
        <p:spPr>
          <a:xfrm>
            <a:off x="1403280" y="537372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oesía amorosa del siglo XVI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ES La Rosaleda (Málag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00720" cy="3948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68360" y="5013360"/>
            <a:ext cx="5761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a voz de Latinoamé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legio Ayalde 4º ESO (Bizka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3 CuadroTexto"/>
          <p:cNvSpPr/>
          <p:nvPr/>
        </p:nvSpPr>
        <p:spPr>
          <a:xfrm>
            <a:off x="6300720" y="2205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cuencia didác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905440" cy="3557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1763640" y="3733920"/>
            <a:ext cx="5219640" cy="3124080"/>
          </a:xfrm>
          <a:prstGeom prst="rect">
            <a:avLst/>
          </a:prstGeom>
          <a:ln w="0">
            <a:noFill/>
          </a:ln>
        </p:spPr>
      </p:pic>
      <p:sp>
        <p:nvSpPr>
          <p:cNvPr id="72" name="3 CuadroTexto"/>
          <p:cNvSpPr/>
          <p:nvPr/>
        </p:nvSpPr>
        <p:spPr>
          <a:xfrm>
            <a:off x="4932360" y="270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esentamos nuestras crea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4 CuadroTexto"/>
          <p:cNvSpPr/>
          <p:nvPr/>
        </p:nvSpPr>
        <p:spPr>
          <a:xfrm>
            <a:off x="2843280" y="6093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Historias en primera pers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119240" y="1066680"/>
            <a:ext cx="6905520" cy="4724640"/>
          </a:xfrm>
          <a:prstGeom prst="rect">
            <a:avLst/>
          </a:prstGeom>
          <a:ln w="0">
            <a:noFill/>
          </a:ln>
        </p:spPr>
      </p:pic>
      <p:sp>
        <p:nvSpPr>
          <p:cNvPr id="75" name="3 CuadroTexto"/>
          <p:cNvSpPr/>
          <p:nvPr/>
        </p:nvSpPr>
        <p:spPr>
          <a:xfrm>
            <a:off x="2411280" y="5300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aboramos un álbum de fotografí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051840" cy="4005000"/>
          </a:xfrm>
          <a:prstGeom prst="rect">
            <a:avLst/>
          </a:prstGeom>
          <a:ln w="0">
            <a:noFill/>
          </a:ln>
        </p:spPr>
      </p:pic>
      <p:sp>
        <p:nvSpPr>
          <p:cNvPr id="77" name="4 CuadroTexto"/>
          <p:cNvSpPr/>
          <p:nvPr/>
        </p:nvSpPr>
        <p:spPr>
          <a:xfrm>
            <a:off x="1116000" y="5157720"/>
            <a:ext cx="655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iencias paseando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º ESO Instituto Artaza Romo (Bizka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3:32:58Z</dcterms:created>
  <dc:creator>Mari</dc:creator>
  <dc:description/>
  <dc:language>en-US</dc:language>
  <cp:lastModifiedBy>Mari</cp:lastModifiedBy>
  <dcterms:modified xsi:type="dcterms:W3CDTF">2015-04-19T13:55:54Z</dcterms:modified>
  <cp:revision>4</cp:revision>
  <dc:subject/>
  <dc:title>Diapositiva 1</dc:title>
</cp:coreProperties>
</file>